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8D68-9F5A-445F-A67E-DB5706CD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BFD-DEA0-4613-9662-D541966A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61F-BF51-4860-B6D9-3740DDB8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AA75-C97E-4B40-BE82-0B9DED1F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1A8-F766-4963-B95B-C0A24F9F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8A3-6151-47DC-BD57-A313F016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C2AA-5F88-49E2-AEA8-2312D962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72CE-665D-4B8E-8BD6-25D773EA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AAB-B909-40BB-8E94-FD77A690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64C4-626E-4185-9A4D-6D94D656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A1D6-2AA7-41F3-BB67-143E02EE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E1A-3F66-460C-8B26-A6F012C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7781-CD42-4EA1-B81C-F9F262A1E9C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3" name="Footer Placeholder 2"/>
          <p:cNvSpPr/>
          <p:nvPr/>
        </p:nvSpPr>
        <p:spPr>
          <a:xfrm>
            <a:off x="307188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194C1DBE-CFAF-4D7E-9E33-96665EF3AB7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360" y="1333440"/>
            <a:ext cx="8153280" cy="47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om. 16.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σπασασθε Ἐπαινετον τον ἀγαπητον μου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στιν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  ἀπαρχη της Ἀσιας εἰς Χρισ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reet my beloved Epaenetos,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a beginning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 Asia for Chri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7.2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 ἐστιν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περι οὑ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γεγραπ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is (the one)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oncerning who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t is writte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6.46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ί δε με καλειτε∙ κυριε κυριε, και οὐ ποιετε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ἁ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do you call me, 'Lord, Lord', and do not 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wha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 say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8280" y="1373040"/>
            <a:ext cx="891540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urther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        Often the relative clause will come in the middle of the complex sentence, not neatly at the end. English also does this, but not as often as in 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τα τεκνα ἁ ἐδιδασκον κραζ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hildren whom I was teaching are crying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·         If the antecedent should be part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αὐ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will often be o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οὑς θελει ζῳοποιε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 =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υἱος ζῳοποιει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ους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οὑς θελε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on makes alive those whom he wishes (John 5.2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1BBD419C-E18B-4C93-950C-6C7027C3B3A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762120" y="1447920"/>
            <a:ext cx="76197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Greek will often put the relative clause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ἁ βλεπω φιλω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= 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φιλω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αὐτα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ἁ βλεπω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like the things which I see = I like what I s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39680" y="3357720"/>
            <a:ext cx="91440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hn 6.2:  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θεωρουν τα σημεια ἁ ἐποι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y were seeing the signs which he was do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om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9.18: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ἀρα οὐν ὁν θελει ἐλε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then, he has mercy on whom he wis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9C633A26-30DA-4AA2-B776-BF1A697CC58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7320" y="1511280"/>
          <a:ext cx="8829360" cy="1158840"/>
        </p:xfrm>
        <a:graphic>
          <a:graphicData uri="http://schemas.openxmlformats.org/drawingml/2006/table">
            <a:tbl>
              <a:tblPr/>
              <a:tblGrid>
                <a:gridCol w="6283080"/>
                <a:gridCol w="254628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question expecting the answer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>
                      <a:noFill/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no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μη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yes' – </a:t>
                      </a:r>
                      <a:r>
                        <a:rPr b="0" lang="el-GR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ὐ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... ;</a:t>
                      </a:r>
                      <a:r>
                        <a:rPr b="0" lang="en-GB" sz="32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8"/>
          <p:cNvSpPr/>
          <p:nvPr/>
        </p:nvSpPr>
        <p:spPr>
          <a:xfrm>
            <a:off x="1447920" y="3048120"/>
            <a:ext cx="624816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6.67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 και ὑμεις θελετε ὑπαγε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don't also wish to go away, do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rely you don't also want to go aw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7.25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χ οὑτος ἐστιν ὁν ζητουσι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is whom they are seeking isn't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urely this is the one they are af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62035905-B2C2-4A42-931C-6D03BB34FEB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1295280"/>
            <a:ext cx="8534160" cy="28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is difficult to find any logical reason behind the use in slanted questions of these two forms of 'not'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n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e question words, they will normally come first in the sentence, which is rare when they occur simply as the negative (and there will also always be a question mark of cour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also sometimes used 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μ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,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χ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stead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οὐ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4920" y="4267080"/>
            <a:ext cx="853416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uke 4.22: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λεγον, Οὐκι υἱος ἐστιν Ἰωσηφ οὑτο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y were saying, 'Isn't this Joseph's son?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John 8:22: </a:t>
            </a:r>
            <a:r>
              <a:rPr b="0" lang="en-GB" sz="2200" spc="-1" strike="noStrike">
                <a:solidFill>
                  <a:srgbClr val="000000"/>
                </a:solidFill>
                <a:latin typeface="Greek"/>
                <a:ea typeface="Times New Roman"/>
              </a:rPr>
              <a:t>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λεγον οὐν οἱ Ἰουδαιοι, Μητι ἀποκτενει 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[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kill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]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ἑαυτον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the Jews were saying, 'He isn't going to kill himself, is he?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90F0A624-672E-4AF7-888F-B4BFBA70DDE9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SLANTED QUES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12369381-565F-4AD3-8B16-E93543E7C9B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STATEMEN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19040" y="1785960"/>
            <a:ext cx="83059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aid, '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 am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'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Direc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 sai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hat he was the Chr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Indirect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rect statements also occur after other '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verbs of saying or think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' (such as feeling, believing, knowing, learning, fearing etc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thought that he was the Chr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C4F6402E-8B9E-4DB9-B009-71F0F0F6AA0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52600" y="1217520"/>
            <a:ext cx="80388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State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are expressed in four different ways in Gree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word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used to introduce the direct stat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thus the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equivalent to the opening inverted comma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Participle of</a:t>
            </a:r>
            <a:r>
              <a:rPr b="0" lang="en-GB" sz="22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λεγω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added immediately before the di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atement (again, the Participle is then equivalent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pening inverted commas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και ἐκηρυσσεν λεγων∙ Ἐρχετα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.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ark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−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he used to proclaim (saying), ‘He is coming …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th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the Participle of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λεγω</a:t>
            </a:r>
            <a:r>
              <a:rPr b="0" lang="en-GB" sz="1800" spc="-1" strike="noStrike">
                <a:solidFill>
                  <a:srgbClr val="ffffff"/>
                </a:solidFill>
                <a:latin typeface="Greek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i.e. 1 and 2 combin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hing marks out the beginning of the direct stat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BB9958A0-13F3-473C-92E0-89419D35923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71680" y="3124080"/>
            <a:ext cx="8001000" cy="25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rect Stat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rect statements are expressed in Greek by the word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meaning 'that'), and so are quite straightfor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θεωρω ὁτι προφητης εἶ συ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John 4.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 see that you are a proph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95360" y="16765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hing marks out the end of a direct statement in Greek. Thus it is hard to be certain where direct speech finishes (e.g. in John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495360" y="2928960"/>
            <a:ext cx="8153280" cy="311112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 not be confused by the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re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fferent meanings of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ὁτι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To introduce direct statements (= open quotatio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To introduce indirect statements (= 'that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As a word meaning 'becaus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866960" y="1500120"/>
            <a:ext cx="541008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eek uses the tense of the original words or though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901448B5-0C21-4FA7-8C6A-ACE31C4AD9B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-71280" y="271440"/>
            <a:ext cx="8627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3 DIRECT AND INDIRECT EXAMP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C0573C3A-1178-47D8-B2BF-02FAE0BD816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409760" y="2362320"/>
            <a:ext cx="6324480" cy="18180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 'how long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ccus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 'during'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geni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ime 'at' – 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dativ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609480" y="121932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δυο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l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 means time 'how long', expressed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English by 'for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For two day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ης ἡμερας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ας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en. 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gen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time 'during', expressed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glish by 'during' or 'by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uring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 or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CD3E7F26-01EB-40A7-B6AC-49FDAFA57CC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523880" y="2365200"/>
            <a:ext cx="6096240" cy="9774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The relative pronoun links together two basic sentenc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43080" y="3500280"/>
            <a:ext cx="845820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The lord sent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messen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messeng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 the se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The lord sent the messenger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saw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s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42960" y="1371600"/>
            <a:ext cx="6058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0.1.1 Understanding relativ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1A67F205-A8C5-4A05-92F7-DC0447B9424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643800" y="6299280"/>
            <a:ext cx="222732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33EB0436-1147-4B1B-A567-A7073F4FC07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24444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4 TIME EXPRESS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419040" y="1828800"/>
            <a:ext cx="830592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τῃ ἡμερᾳ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κουουσιν του κυριο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μερᾳ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a time expression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dat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ans time 'at which', expressed in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glish by 'on'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ntence = '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On the da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y listen to the Lord.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 Sometimes, although no preposition is needed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used as well as the dative (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ν τῃ ἡμερᾳ βλεπουσιν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. This makes no difference to the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33093A79-ABEE-4C99-8033-6A64BE13AE5A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71680" y="1357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One complex senten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  They are keeping the law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which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each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Arial"/>
              </a:rPr>
              <a:t>Two basic sentence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. They are keeping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. He teaches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</a:rPr>
              <a:t>the law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5920" y="3476520"/>
            <a:ext cx="8929800" cy="24987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antecedent will come in the first sente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he relative will be in the second sent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replacing the anteceden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English the antecedent normally immediately precedes the relativ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190440" y="1098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.1.2 Formation of the relative in Gr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952560" y="1660680"/>
          <a:ext cx="7119720" cy="4054320"/>
        </p:xfrm>
        <a:graphic>
          <a:graphicData uri="http://schemas.openxmlformats.org/drawingml/2006/table">
            <a:tbl>
              <a:tblPr/>
              <a:tblGrid>
                <a:gridCol w="892080"/>
                <a:gridCol w="835200"/>
                <a:gridCol w="892080"/>
                <a:gridCol w="1027080"/>
                <a:gridCol w="758880"/>
                <a:gridCol w="1130400"/>
                <a:gridCol w="658800"/>
                <a:gridCol w="925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cu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min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u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ἣ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ἡ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ὃ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ἡ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η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ᾑ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ᾡ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ῳ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ο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ἳ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α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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ὑ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υ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ὡν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ων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α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ἱς</a:t>
                      </a: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ις</a:t>
                      </a:r>
                      <a:r>
                        <a:rPr b="0" lang="en-GB" sz="2400" spc="-1" strike="noStrike">
                          <a:solidFill>
                            <a:srgbClr val="e0b300"/>
                          </a:solidFill>
                          <a:latin typeface="Gentium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264960" y="5796000"/>
          <a:ext cx="8614080" cy="533520"/>
        </p:xfrm>
        <a:graphic>
          <a:graphicData uri="http://schemas.openxmlformats.org/drawingml/2006/table">
            <a:tbl>
              <a:tblPr/>
              <a:tblGrid>
                <a:gridCol w="866880"/>
                <a:gridCol w="546120"/>
                <a:gridCol w="2438280"/>
                <a:gridCol w="668520"/>
                <a:gridCol w="409428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ὁ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ve pronou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e0b300"/>
                          </a:solidFill>
                          <a:latin typeface="Gentium"/>
                          <a:ea typeface="Times New Roman"/>
                        </a:rPr>
                        <a:t>τον</a:t>
                      </a: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Greek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e article for compa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6BA3AFFF-D55C-45C7-B0BD-3C34734A0771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1000080" y="1643040"/>
            <a:ext cx="7062840" cy="40269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Hint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very short word with a rough breathing is almost certain to be part of the relative pronou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place the rough breathing by a </a:t>
            </a:r>
            <a:r>
              <a:rPr b="1" lang="el-GR" sz="3200" spc="-1" strike="noStrike">
                <a:solidFill>
                  <a:srgbClr val="ffffff"/>
                </a:solidFill>
                <a:latin typeface="Gentium"/>
              </a:rPr>
              <a:t>τ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nd you will have the corresponding part of the article which you should be able to recogn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A69BBD00-DA5E-4822-B8B1-2063D1AC65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1135080" y="1549440"/>
            <a:ext cx="6872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Arial"/>
              </a:rPr>
              <a:t>10.1.3 Using the relative in Greek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66720" y="2540160"/>
            <a:ext cx="7810560" cy="178380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 the relativ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Numb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Gender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agree with the antece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is determined within its own sentence, by the normal rules (e.g. it is the object, governed by a preposition etc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809720" y="4902120"/>
            <a:ext cx="5524560" cy="94716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relative pronoun links together two basic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D2A83310-6A51-4FBD-8739-3AC7870919B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D45C8881-0170-4E30-990F-09A826B98F9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90440" y="1214280"/>
            <a:ext cx="859644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        The lord sent the messeng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aw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ecedent: the mess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ntence: who (the messenger) saw the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ecedent is masculine singular; 'who' is the subject 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should be masculine, singular, nomin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Gree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 κυριος ἐπεμψεν τον ἀγγελ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ς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βλεψεν την θαλασσα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33200" y="1454040"/>
            <a:ext cx="901080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        They are keeping the law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he tea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ecedent: th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ntence: he teaches which (the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ecedent is masculine singular; 'which' is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its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should be masculine singular, accusative 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ὁ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τηρουσιν τον νομον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ὁ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διδασκε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98AA24AB-4069-4FC3-B0E2-BB105585990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67360" y="6299280"/>
            <a:ext cx="20037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0:Grammar </a:t>
            </a:r>
            <a:fld id="{F910A5FD-77F7-4D55-B396-42556905DDD5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41200" y="27144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10.1 RELATIVE PRONOU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03040" y="1585800"/>
            <a:ext cx="835848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·         That is the synagogu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to whi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y are co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tecedent: the 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ntence: they are coming into which (the synago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ntecedent is feminine singular; 'who' is governed by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</a:rPr>
              <a:t>εἰς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therefore must be accusative. Relative should be feminine, singular, accusative =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ἡν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= 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ἐκεινη ἐστιν ἡ συναγωγη </a:t>
            </a:r>
            <a:r>
              <a:rPr b="0" lang="el-GR" sz="2700" spc="-1" strike="noStrike" u="sng">
                <a:solidFill>
                  <a:srgbClr val="ffffff"/>
                </a:solidFill>
                <a:uFillTx/>
                <a:latin typeface="Gentium"/>
                <a:ea typeface="Times New Roman"/>
              </a:rPr>
              <a:t>εἰς ἡν</a:t>
            </a:r>
            <a:r>
              <a:rPr b="0" lang="el-GR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 ἐρχονται</a:t>
            </a:r>
            <a:r>
              <a:rPr b="0" lang="en-GB" sz="27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10:59Z</dcterms:created>
  <dc:creator>Sarah</dc:creator>
  <dc:description/>
  <dc:language>en-US</dc:language>
  <cp:lastModifiedBy>Sarah</cp:lastModifiedBy>
  <dcterms:modified xsi:type="dcterms:W3CDTF">2009-03-06T10:33:32Z</dcterms:modified>
  <cp:revision>47</cp:revision>
  <dc:subject/>
  <dc:title>Slide 1</dc:title>
</cp:coreProperties>
</file>